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D02-B362-4C22-82AA-99B3E43E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543-25B2-4712-B361-728999F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5B1B-1306-4296-8A03-461A00BE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02D-26B6-48FB-AAF5-41886104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94CA-9715-4C00-A8A9-5AAFB67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5B25-0BC6-42F8-9599-91031A92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E8F4-E760-4E0B-BB74-D14CDAFE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83BB-6CBE-49FF-AEF3-1892E14F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D21-0CEB-49B6-9C09-B00A054D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26F-1F1F-4A5D-96A2-D16B8F6F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EB4-DFAF-4E6A-B5DB-5ACF48D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63FF-2A53-43A6-80B3-FB9545D9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3EE-BBA2-408F-B75E-34BC8630B8B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Теория самопроизвольного зарождения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Живое возникло из неживого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ьтернатива креацио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родилась в Древнем Китае, Вавилоне и Егип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верженцами теории были: Эмпедокл, Демокрит и особенно Аристоте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Виталистам, и сторонникам самозарождения вообще, был нанесен сокрушительный удар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Л.Пастера с колб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Все живое из живого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1116000" y="2382840"/>
            <a:ext cx="6696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дтверждение теории биогенеза породило другую проблему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2997000"/>
            <a:ext cx="854064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Коль скоро для возникновения живого организма необходим другой живой организм, то откуда же взялся самый первый живой организ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7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21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31116"/>
                </a:solidFill>
                <a:latin typeface="Arial"/>
              </a:rPr>
              <a:t>Аристотель 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                       (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V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в. до н. э.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3860640"/>
            <a:ext cx="8540640" cy="22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тверждал наличие «активного начал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Живое может возникать не только в результате спаривания животных, но и о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ложения почвы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09480" y="189000"/>
            <a:ext cx="27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3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деи Аристотеля о самозарождении жизни сохраняли власть над умами многих видных ученых очень долго, вплоть до 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XIX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720" y="228240"/>
            <a:ext cx="5535360" cy="62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Известный врач Парацельс пытался опытным путем доказать самозарождение лягушек, мышей, черепах, угрей из воды, воздуха, соломы, гниющего дерева и других неживых предмет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275760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Парацель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493 – 1541)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615960" y="404640"/>
            <a:ext cx="20019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6000" y="1557000"/>
            <a:ext cx="618336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Ян Баптист ван Гельмонт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577 – 1644)</a:t>
            </a:r>
            <a:br>
              <a:rPr sz="4000"/>
            </a:b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Arial"/>
              </a:rPr>
              <a:t>Описал эксперимент, в котором он за три недели якобы создал мышей. Для этого были нужны грязная рубашка, темный шкаф и горсть пшеницы. Активным началом в процессе зарождения мыши ван Гельмонт считал человеческий пот.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1" name="Picture 6" descr="helmont"/>
          <p:cNvPicPr/>
          <p:nvPr/>
        </p:nvPicPr>
        <p:blipFill>
          <a:blip r:embed="rId1"/>
          <a:stretch/>
        </p:blipFill>
        <p:spPr>
          <a:xfrm>
            <a:off x="179280" y="981000"/>
            <a:ext cx="2498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64000" y="475920"/>
            <a:ext cx="527832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Жан Батист Ламар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744 – 182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ал о самозарождении некоторых гриб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21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Опровержение теории самопроизвольного зарождения жизн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4868640"/>
            <a:ext cx="297504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31116"/>
                </a:solidFill>
                <a:latin typeface="Arial"/>
              </a:rPr>
              <a:t>Франческо Ре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626 – 1698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76720" y="1676160"/>
            <a:ext cx="55656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й работе «Эксперименты над зарождением насекомых» в 1668 г. он, обобщая свои наблюдения, высказал предположение, что «черви» появились в результате полового размножения мух на гниющем мясе, а у самого гнилого мяса нет другой функции, кроме как служить питанием для мух и быть местом откладки их я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7" descr="redi"/>
          <p:cNvPicPr/>
          <p:nvPr/>
        </p:nvPicPr>
        <p:blipFill>
          <a:blip r:embed="rId1"/>
          <a:stretch/>
        </p:blipFill>
        <p:spPr>
          <a:xfrm>
            <a:off x="468360" y="1773360"/>
            <a:ext cx="2160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1116"/>
                </a:solidFill>
                <a:latin typeface="Arial"/>
              </a:rPr>
              <a:t>Ладзаро Спалланцани</a:t>
            </a: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(1729 – 1799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упил против самозарождения бактер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65 г. провел следующий опыт: прокипятив мясной бульон в течение часа, он запаял вытянутое горлышко колбы. В запаянной колбе микроорганизмы не возникали. Из этого Спалланцани сделал вывод, что высокая температура уничтожила все формы живых существ и что без них ничто живое уже не могло возникну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22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Arial"/>
              </a:rPr>
              <a:t>Французская Академия наук назначила в 1859 г. специальную премию за попытку ответить на вопрос о самопроизвольном зарождени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427280" y="2924280"/>
            <a:ext cx="432108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у премию спустя три года, в 1862 г., получил французский ученый </a:t>
            </a:r>
            <a:r>
              <a:rPr b="0" lang="ru-RU" sz="3200" spc="-1" strike="noStrike">
                <a:solidFill>
                  <a:srgbClr val="f31116"/>
                </a:solidFill>
                <a:latin typeface="Arial"/>
              </a:rPr>
              <a:t>Луи Пас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1822 – 18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paster"/>
          <p:cNvPicPr/>
          <p:nvPr/>
        </p:nvPicPr>
        <p:blipFill>
          <a:blip r:embed="rId1"/>
          <a:stretch/>
        </p:blipFill>
        <p:spPr>
          <a:xfrm>
            <a:off x="539640" y="2492280"/>
            <a:ext cx="309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37:53Z</dcterms:created>
  <dc:creator>Ученик</dc:creator>
  <dc:description/>
  <dc:language>en-US</dc:language>
  <cp:lastModifiedBy>Александр</cp:lastModifiedBy>
  <dcterms:modified xsi:type="dcterms:W3CDTF">2012-03-19T15:55:28Z</dcterms:modified>
  <cp:revision>9</cp:revision>
  <dc:subject/>
  <dc:title>Слайд 1</dc:title>
</cp:coreProperties>
</file>